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D052-37C2-49D8-8520-3328F413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9539-05BF-4134-A003-D6F468A6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51CD-B014-4CD9-92CE-59F8CEA2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82B-96A2-41C9-9E6B-780CBF9C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B09D-2D0F-4754-ADA1-B8F49F51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0A3-2012-45E5-B47B-6BA5E8D6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3AC6-E8C0-44CC-A76E-CE0949A8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F4DD-0EA2-43DF-B880-1C64DCD1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FF9D-578B-41EF-9D60-22868099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CC17-2B28-4ED6-B31D-E45ADCC2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240-4356-4DA0-AFDF-D8F1E109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5EA-3333-4D47-BEC1-A948F557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746D-9A34-4FDD-AFA5-B3DFAAFD325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mensionierung vo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1333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wicklung und Konstruktion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372360" y="378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Abali 17.05.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558972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lle Bilder und Formeln sind Auszüge aus dem Roloff/Matek Maschinenele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bei statischer Betriebskra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96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bei statischer Betriebskra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93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bei dynamischer Betriebskra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2360" y="2133720"/>
            <a:ext cx="88916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bei dynamischer Betriebskra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643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fluss der Krafteinleitung in die Verbind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497800" cy="3816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85690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fluss der Krafteinleitung in die Verbind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497800" cy="3816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85690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fluss der Krafteinleitung in die Verbind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351640" cy="367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9280" y="5300640"/>
            <a:ext cx="87138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7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ftverhältnisse bei statischer oder dynamischer Querk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1846440"/>
            <a:ext cx="84978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zverhalten der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28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zbetrag/Vorspannkraftverl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5184720" cy="3889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5640" y="5734080"/>
            <a:ext cx="7488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zverhalten der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28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zbetrag/Vorspannkraftverl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62160"/>
            <a:ext cx="91440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7488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wendungsbei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auslegung der Schraubenverbi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teilen der Schraubenverbind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äfte und Verformungen im Montagezu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sche Nachgiebigkeit der Schra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sche Nachgiebigkeit der Baute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äfte und Verformungen bei statischer Betriebsk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äfte und Verformungen bei dynamischer Betriebsk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fluss der Krafteinleitung in die Verbi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ftverhältnisse statischer und dynamischer Querkräf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zverhalten der Schraubenverbi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ziehen der Verbi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agevorspannkraft, Anziehfaktor und –verfahr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haltung der maximal zulässigen Schraubenkraf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echnung der statischen 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ächenpressung an den Auflageflä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ösen der Schraubenverbi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uerhaltbarkeit der Schraubenverbi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chlagspannung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/dynamische Sicherhei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1484280"/>
            <a:ext cx="91440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bereits erläutert, wird die Schraube durch die Zusatzkraft F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B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chwingend belast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dadurch gegebene Ausschlagkraft F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ührt zu einer Ausschlagspannu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ziehen der Verbindung, Anziehdreh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äfte am Gewi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59280" y="6021360"/>
            <a:ext cx="165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tan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6021360"/>
            <a:ext cx="165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tan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ziehen der Verbindung, Anziehdreh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windemo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893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ziehen der Verbindung, Anziehdreh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ziehdreh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ziehen der Verbindung, Anziehdreh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ziehdreh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2631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4437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ür den Normalfall (unbehandelte, geölte Schrauben) lässt sich für Befestigungsschrauben das Anziehdrehmoment hinreichend genau ermitteln durch die einfache Bezieh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5084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gevorspannkraft, Anziehfaktor und -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148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 wichtigen Verschraubungen ist ein kontrolliertes Anziehen (Anziehgerät s. Bild 8-21) unbedingt erforderlich, um eine verlangte Vorspannkraft möglichst genau zu erreichen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gevorspannkraft, Anziehfaktor und -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tagewerkze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9144000" cy="2781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5327640" cy="739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00000" y="1557360"/>
            <a:ext cx="720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 Maß für die Streuung der Vorspannkraft ist der Anziehfaktor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99736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ell ermittelte werte können der TB 8-11 entnomm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gevorspannkraft, Anziehfaktor und –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haltung der maximal zulässigen Schraubenk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chnung der statischen Sicherh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wendungsbeispie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038480" cy="3909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92720" y="35002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ckbehä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6308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pp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ächenpressung an den Auflageflä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160640"/>
            <a:ext cx="91440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ösen der Schraubenverbi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sdreh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785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auslegung der Schraubenverbi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1341360"/>
            <a:ext cx="24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1052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M TB 8-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rechnung von Befestigungsschrau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820000" cy="489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1125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t vorgespannte Verbin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112536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rgespannte Verbin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im Montagezust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sche Längenänderu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496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632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im Montagezust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7489800" cy="3898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3203640" cy="3673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9280" y="1628640"/>
            <a:ext cx="5329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chgiebigkeit der Schrau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ch Addition der Nachgiebigkeiten der einzelnen Elemente erhält man die Nachgiebigkeit der Schra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im Montagezust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chgiebigkeit der verspannten Te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32000" y="5661000"/>
            <a:ext cx="5580000" cy="119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87280" y="1773360"/>
            <a:ext cx="5004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im Montagezust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chgiebigkeit der verspannten Te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4869000"/>
            <a:ext cx="8101080" cy="1989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24720" cy="273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244000" y="5157720"/>
            <a:ext cx="576000" cy="370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68360" y="4653000"/>
            <a:ext cx="8675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1:12:09Z</dcterms:created>
  <dc:creator>,</dc:creator>
  <dc:description/>
  <dc:language>en-US</dc:language>
  <cp:lastModifiedBy>,</cp:lastModifiedBy>
  <dcterms:modified xsi:type="dcterms:W3CDTF">2008-05-16T22:14:21Z</dcterms:modified>
  <cp:revision>15</cp:revision>
  <dc:subject/>
  <dc:title>Dimensionierung von Schraubenverbindungen</dc:title>
</cp:coreProperties>
</file>